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DC4-7ED3-4D0C-9F53-646A07E0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B85-0D3D-4D21-90C0-4103DA5A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FE3-C6A9-465B-91F7-3871441B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F91-A677-4E04-820C-35919B35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23B-83DB-44D2-B670-8E1BD2F1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4CE-0BCA-4933-8790-221E12B8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C80-E4B5-4B00-8BC2-2A59FDB8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3338-A3DC-4736-A213-0FADE83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2748-D9AF-49A0-857C-4B5A478D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B31-046C-4086-9B06-0837116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E4D5-37FB-4D35-A8E3-E9525C83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C7C-32FF-4A8E-A1F6-B8C1C2D1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4A5-0965-4EF0-9A09-BE83587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8ABB-C0B1-4508-B203-A15F06B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5D07-CCC8-4019-A749-5DE637F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E4F2-B7BE-4DFD-A546-C1F57A85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5F7-B51B-4B67-9BEC-D6345235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C07-71B0-4698-BA4C-9563DDE6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6E3-94E3-4389-AE93-9E3F84B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359-444A-4CE0-A971-321AB62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D48-8816-4DC4-918B-C705914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52E-0386-42BB-8BA8-5194DBE3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B87-64E4-4F4D-8533-BBC1EA4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B24-EFB7-4A15-8E9F-EADE1B6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236-A8C0-4BC8-A1FD-866516203EE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656-C059-4BB1-ADCA-B96E1248790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pplicability of Mobi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mobile agents useful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derik Nysse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riment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erything is implemented using Bor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rg provid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mmunica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rong mobility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rg miss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rror handling towards dead or non-existent agent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stat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riment “The Case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son Trac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persons with the same interes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utomatic Versioning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utomatic changing to newer vers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oid copying of paper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nda Plann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a appropriate appointment for both parti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esign is probably the most important par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munication, synchronization, agent mo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, Roaming and Security are interwove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ults : Roaming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nt Roami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fault tolerance : clone the personal data ag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original data agent is used for identific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vironment Roami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uite easy : just inform that you are ready, it is exactly the same as fault tolerance for environmen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ults : Reliabilit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sist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ust move the agent when an environment shuts dow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ad balanci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ust move the agent when it is using to much resourc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ults : Reliabilit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ult toleranc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 knowledge in the system is (unintentionally) distributed, it is like a jigsaw puzzle that automatically falls into one pie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ult tolerance for the application serv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arious (well know in distributed computing) are applicable to select a creator for the application serv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ults : Securit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pends on the underlying structur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you are unable to find out where an agent is then you are unable to find the stub-ag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oaming Probl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ver let the stub and the addressed agent in the same environ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9548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ystem (network, CPU, Memory) on which an multi-agent system is running is always a part of the environment and all  individual agents should react to changes in the system, regardless of the type of the ag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tributed ??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mulates the behavior of large groups of interacting agent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ut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stributed environment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stributed program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4920" y="4876920"/>
            <a:ext cx="84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gent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is a computer system that is situated in som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environment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d that is capable o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utonomous action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in this environ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in order to meet its design objectiv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Mobile Programs ?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gical step after mobile device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computational power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nsmissio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mory, CPU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re data available (worldwide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ke the programs mobile let them compute on bigger or better systems and return with the resul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w is Mobility Implemented 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gle hop system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ripting languages such as tcl/tk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ulti-hop systems (Strong Mo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/w/t/c/b/ Bor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mads (Java based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sed on checkpoint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aving the state of a running program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nefits From Mobility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oam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urity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am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r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ata Agents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Program Agen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vironment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phery devices can be used when they come onli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liabilit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sist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ts can migrate when a system shuts dow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ult toleranc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ts that are killed can be “reanimat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ad balanci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s that are overloaded can ask agents to move to other system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urity 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nts can be used to ad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ill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py protec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urity 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nts must be protected agains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ther agen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environm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vironments must be protected agains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irus like agen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ssens Frederik</cp:lastModifiedBy>
  <dcterms:modified xsi:type="dcterms:W3CDTF">2001-04-24T22:36:15Z</dcterms:modified>
  <cp:revision>7</cp:revision>
  <dc:subject/>
  <dc:title>PowerPoint Presentation</dc:title>
</cp:coreProperties>
</file>